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1DA-C7FF-4D0E-871E-7349E85B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A32-8B3B-41F5-A4DA-F5008F3A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027-3485-4BBD-B359-713B8B18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42D-99C1-485C-91B6-5DA71889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15F-CD74-48AA-941F-864029C4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CAF-CB43-4CA4-88F4-5CA45C31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392-23F1-413D-AD39-53356A7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982-BE63-40B2-A74C-AD47F43A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D6C-35B6-420E-8810-68F3EDF7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E09-D837-4E39-B082-83E2577D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AF1-2C90-4FA6-BC72-997445F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DEA-F381-4E9C-818F-D5311D9E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88F2-3B9F-490B-9050-973E696A9C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oches cubanos"/>
          <p:cNvPicPr/>
          <p:nvPr/>
        </p:nvPicPr>
        <p:blipFill>
          <a:blip r:embed="rId1"/>
          <a:stretch/>
        </p:blipFill>
        <p:spPr>
          <a:xfrm>
            <a:off x="0" y="1447920"/>
            <a:ext cx="95248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oro"/>
          <p:cNvPicPr/>
          <p:nvPr/>
        </p:nvPicPr>
        <p:blipFill>
          <a:blip r:embed="rId1"/>
          <a:stretch/>
        </p:blipFill>
        <p:spPr>
          <a:xfrm>
            <a:off x="1981080" y="1206360"/>
            <a:ext cx="59436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rivera"/>
          <p:cNvPicPr/>
          <p:nvPr/>
        </p:nvPicPr>
        <p:blipFill>
          <a:blip r:embed="rId1"/>
          <a:stretch/>
        </p:blipFill>
        <p:spPr>
          <a:xfrm>
            <a:off x="1066680" y="380880"/>
            <a:ext cx="6550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abras"/>
          <p:cNvPicPr/>
          <p:nvPr/>
        </p:nvPicPr>
        <p:blipFill>
          <a:blip r:embed="rId1"/>
          <a:stretch/>
        </p:blipFill>
        <p:spPr>
          <a:xfrm>
            <a:off x="1447920" y="380880"/>
            <a:ext cx="6549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osa"/>
          <p:cNvPicPr/>
          <p:nvPr/>
        </p:nvPicPr>
        <p:blipFill>
          <a:blip r:embed="rId1"/>
          <a:stretch/>
        </p:blipFill>
        <p:spPr>
          <a:xfrm>
            <a:off x="1523880" y="380880"/>
            <a:ext cx="66265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7:52:38Z</dcterms:created>
  <dc:creator>Rye Schools</dc:creator>
  <dc:description/>
  <dc:language>en-US</dc:language>
  <cp:lastModifiedBy>User</cp:lastModifiedBy>
  <dcterms:modified xsi:type="dcterms:W3CDTF">2008-10-31T18:30:17Z</dcterms:modified>
  <cp:revision>1</cp:revision>
  <dc:subject/>
  <dc:title>Slide 1</dc:title>
</cp:coreProperties>
</file>